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FF-F261-4B43-87E9-D069C5B6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3F6-8350-48F4-B2A8-D7635438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35559-CBE0-468C-9312-7BAE08C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A9D6A-D9B7-4065-B350-F435622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045F-2838-468A-9C1A-A6AFA8DA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8EE11-BF4F-4022-9DD3-765E9BA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88E86-6932-4DB4-B385-874F03A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03747-4553-49DE-88B3-32E47BCE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03BDA-7FE4-4EF3-8088-8EB81143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7A571-1713-4DD0-BE5B-BAE4BBB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45400-AB06-4EFA-BB39-6DFA7DA7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A5FD8-0784-4937-BBB8-C2A28B50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4D6-264A-4EA1-A8FB-E9991D4C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C4E3A-2752-40C2-BD4C-48017AE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08BD8-2FD1-4FDD-A061-4B4CF8B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386E7-80C6-4761-9A1C-98327B0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93E6-F81B-4E60-998E-C0FFB37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3BBE2-9827-4B81-B7A1-2D4CFBB1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9D75-CA42-4F1E-BEDE-ED48617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4EBE-B8D1-4621-B619-7724491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5CDE-7B56-47B4-A008-7D98EAF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3A8CF-B781-41C5-86E3-C9241DD9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DE0E7-D848-4452-B380-D81D8E92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3E4-9C52-4B41-B25B-6AC575AD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1FC01-3420-49EC-B3FE-A09ADA90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C8A7B-12FB-4F51-9C39-63F12B77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3E22E-8F7B-4584-9BC8-35E81CA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944C9-3EE7-434A-91F1-0FD8FB2A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4A93B-9CD0-41E1-A963-0350763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8575-6905-4B99-B8D9-47AC9535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3F00-CDEC-480B-B22D-4A08228E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1358E-CE2B-4130-A897-00CBCA1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6E089-FFE2-4FD6-8F3A-6FD2F1B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60F88-BC74-42AB-8482-35018ED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FCC-9537-4A39-BF44-344736F6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6A375-081D-454C-B860-9E5600C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2E5E5-4762-4ECC-B33E-EC36474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89054-F682-44ED-A0DC-11605A5B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BFD60-BDA0-4F19-8738-94402BC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584DB-04B5-4E59-958B-7A4CF6F3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724E6-BEB3-46B2-BBB8-FD9CDDF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6352-91E7-4CF8-B0F2-98612B7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F6EDC-B45D-477F-B9B3-BC28B86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BA2A6-06E0-47F0-A962-E7146038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FA4BA-09F8-4511-98BA-8FB6EBD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7EC1-2C4D-444F-8CBF-E2897DAC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85DBF-0A5E-4166-BC5F-FE4BE39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DF79-D3F3-49AF-B515-7EFE3B5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C9AC9-D87C-4295-A112-734A3DF5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6555C-6800-4C61-BE7F-927B9E9D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1ED4A-2B1B-40D2-828A-426ACF43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44749-309C-418D-97B0-F3FBB2CC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C3F7F-3785-4A94-9BBC-FD9DFEFB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350F6-827F-49E2-8BDA-045BF06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0F56E-1F57-4205-A89D-18E1ACE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3E75A-4BF9-490F-91D6-59CA963E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AD9B-3A5A-4BD6-A97D-52FC2C8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89738-5BDD-47C0-95BA-C9613B1D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3D605-FD3D-46ED-BA9F-4010E7C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B1EF9-FBA4-44CA-8B1C-99F3C79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B1CAF-FF15-448D-934F-3F7234A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89C55-9491-4F60-BFF1-EA38240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290EA-A585-4448-A7AE-201CE70B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6FDC2-6973-45D7-BA55-4A41DF83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0ADA5-DCAD-4392-94AA-0678D176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94AA0-50AE-48A0-A3E9-C49185F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BD646-8648-4529-8FC2-7B490B2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E98A-2E3F-40DA-A8DC-D9A26B7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3595D-85B1-49A1-A617-C722758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8A0C1-616E-4C38-B437-541CF28D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593BB-56D4-48D0-9216-69E3776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F6D95-20F0-4F9A-A061-2494E20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6596D-4FB0-4371-B073-F7A3405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35969-0E83-4F4E-B4C6-C07D45E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E09B7-9714-40A6-A058-E06A96A6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472D2-87BF-491D-A663-014303F5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87319-B270-4331-B5E9-C479899B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0F53B-8C88-4A65-8E0D-A2BBB198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C6C0-B8E4-41D8-BCCB-7191CB93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113AE-AB6E-47A9-A36E-DB4CC4FF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D4190-C31E-4DE8-B428-7250DCC4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A46D3-243E-4909-B51E-55CA8AF8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2D819-6C5C-49D1-AC3A-2C1449F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12B18-8FA3-4D3E-92D8-73226049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98B6A-E73A-442F-A8D0-85867F6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08796-BC70-4B23-BAD4-DB59799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FEB6A-B4DA-4364-B76D-A3D1FCB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A7A08-07A9-42ED-AAC0-5BEE19E7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57930-BA0A-483F-A1AB-B4D45BAC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9329-04BB-4C2A-831D-96077D8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D2303-CDAD-4978-A1A3-7B71ECC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AB307-99F8-4DF1-822B-00FC38C6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51F05-6850-4609-989E-40E03AC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8DF1E-600B-4FCF-8AC5-B932EDA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BDC00-DD47-4A09-9464-9A6C873E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E857C-C143-4329-9B42-82D452F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CF9A0-B9FB-4666-BF95-E715AD15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B1BFE-3FD0-4C3C-ADBF-0CDDB3B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3FD81-4A6D-45D0-8D4D-B1C9B0E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2D78F-E102-4613-8648-4C61B03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B554-1F47-4974-8D9E-AE7ADF6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6B0D7-6EA1-4062-B115-2F1FD3C1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B89C6-8707-4A68-B3BA-652B7D73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27ABF-3422-4183-A9C0-B432915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9363B-CEAD-4EEE-9184-2B8997AD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219B0-A51D-444A-B212-41C76F67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3B1B5-E6C3-4C69-A2F6-77ABD2C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BFBF1-20CD-4A85-87D4-3C2F592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459C4-6F78-448D-8147-ED4C856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EAA65-7F3B-4369-B499-9BA388E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563BD-5083-48EA-9AF9-07E00F3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2FE-DCFB-42FE-83B5-7F6643F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1314-D73A-45DF-8F46-F57E81A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77053-1F25-4356-9AD9-03124F1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CDEFA-6795-4657-B238-652F035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AB1EB-98DE-46DE-8E89-4AE944D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8BC72-8CCE-4AA1-89D9-278E146F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A19D5-97F1-4687-940D-6927D551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3741C-0E53-4795-B1FE-55032966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A21A8-B803-470F-90F0-A620A5F6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265D7-7CC6-47D5-9A6B-A1CEE0D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FCA43-2A36-4624-B8E8-9183F74E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26480-2A12-4017-90E6-9A73B9EA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E8C-2536-48C9-BC9B-B70A124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38493-0F3B-402A-9B0F-BD9FF6F1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91F8E-0E22-4EE5-AB2A-AC9A56AF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1A961-0F7D-452B-BE6C-A0E11B5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161C6-9EF9-4CB3-8FD0-8CB9384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01857-A946-4EDF-84F4-735E759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ADBC7-83CD-4810-BC99-79A499FF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56BF6-C06F-433D-BCFF-C59B22C9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467-6E36-45B8-89F8-9B4835B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6CE-45A5-42D0-8656-70086FAD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11DD-9936-49DD-86E0-344B3B5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924F-BA6D-484E-9A43-5E723CE9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D1ED-3BF8-47BD-A9D2-1287F100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D085-A2FD-460E-B807-F9BFA62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79DC-D5C0-442D-B92D-C9D63C1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49AF-7C7A-4DC9-8B03-DC550D65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F92-50F3-469E-95EF-D54DF67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5693-CCA5-41BD-B9D8-A2DF2B5E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00BE-2AD0-4E09-B810-5BB0A59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1F0D-C7C7-49A5-9BE1-DA84B32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E6B1-6D66-48B7-BEB3-C643C69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9B05-867C-4EE7-B5B6-6EC319F2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EB1E-ADB7-40C5-A5B6-2257788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6B1B-2D5E-494A-9660-95FEE77B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A8F6-0611-412C-8F73-2130CCF4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45CA-A173-4567-99E9-0A68FD7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2351-E07D-4D75-8375-8E77931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2CC-F261-4042-8668-C6B0263A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8122-445E-4F0C-B5C6-F8D1CB5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BC1D-B80C-4C10-B712-95717459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A033-14CF-4AC9-87B0-6EE693F4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B0C7-A1BA-4F23-88D8-B20E313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5FAC-15D6-4A58-A0B1-E2BDE66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FDE6-0799-4BCF-A107-976E7F2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026E-C1B8-47BA-BEF3-02B0CA2D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72F9-4ADF-47CC-A53B-FFD289C5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E01E-3E6F-4420-8CB7-5593C737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F69C-B072-40BC-938D-6ED705CD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A01-0AEA-4A64-818D-B693A3D7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175D-7517-4331-AA19-4681D80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1E71-CD4B-49AB-BC0F-CFB6053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7B32-DE68-4A0C-8D92-57A01273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879A-3EBA-49B4-8CEE-EDD9A2F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DD81-810D-444C-8D36-ED622EC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740B-22AD-4DA5-9450-0DD5B29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80DD-E387-4016-9EA1-2BA3438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130F-49A5-443B-B5B9-192CF59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88CA-1B36-4F4B-8F6D-19C778FA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C17C-26A6-44DE-8B1B-9DFEAF83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C56-D3BC-4564-B790-E6A9481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1C14-0C34-47AD-BFB2-459551EC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BE7AC-D2CF-4C93-816F-2D8D68E4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376D-1D20-4C90-A482-6BBE672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C991-BCF3-4330-BA42-644A26E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262C-4B9C-41C7-B7E9-0C1EA6D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D7B72-46E4-40EA-9CF2-BEC6D8C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18E6-702F-454A-A9B5-F3C127D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C689C-91E2-45BC-82F0-24CF029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3FAB-8AE0-4781-AC4C-E717D50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6092-FE8F-439E-9235-BB69D29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59A-829B-44E8-A910-7F08B2E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A488-78E9-47D2-87B8-55D9B48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1460-857F-4E00-8299-D1FDAD50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186C9-7D82-4084-A828-38BB3E6A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7ABE7-DCB4-4675-A013-ECA90FC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B77F-EFAC-4425-BE4D-E1D6305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550E-1605-4BD0-80F4-42203D3C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8704-A338-4301-BE08-4B6B7892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D24ED-F17B-4EDA-B5C8-335BC6D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8048-453F-47A1-AA89-F1512C5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1B47-66B8-4BF2-BB58-24BF604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A4F-A91B-4AD4-B3E9-F38DEBC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DA4C-84D8-4576-B581-66AE46F4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FF5E-D5E6-48D5-9B5A-B6F7471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AF97E-0FCC-41F1-828C-AA298B9F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091C-CEC6-4DAE-9CD8-9EF9252D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6CE2-8D2B-494B-898A-C9122BF0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C983-D5E4-4F05-A511-94262143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451C4-33B3-4C27-94F5-FA3714D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CDA7-2FDD-4220-A4C2-7C76E61F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1F75-D82E-48E9-980E-5C2D4C3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2E31-D184-4DFE-A1A8-3ED0CBB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E4F-A06E-438C-BC3C-BC6BD43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6A6B-A47C-4E3F-A0D2-CCA30CE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5B18-D341-4F89-9782-B05FFB1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AD877-736A-4307-88BD-F9FE16A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B0D9B-C317-4362-B5D9-5A55C5B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3D6A-3EF0-49B7-BD5D-CCEE9F6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41CB7-E4D7-46C3-B76A-C56AB6A2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A605-660A-4DCB-9D2E-823736DD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395C-780B-4709-872A-BA7B03B5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695D9-A5EE-415B-8701-F2E3B3D1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B6104-9A7F-4204-8745-98F0691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44770-A08F-486F-A722-0EC9061EF7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E28E8-1249-4C7E-B527-1BE02D38E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62A4C-31F3-44EA-A745-21F1498B00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7B7B4-D1A9-4CEF-B99A-74FB756C1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F05F3-952F-4638-8742-BF4658B9FF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26C2B-92E0-417D-B246-0985DE95B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E7A5-A460-4D0E-BEEE-4D528EB927C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AC49C-99E5-477B-82E9-FB9D5A95B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52FD0-C8FE-404E-8560-963938B9B36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D0FF1-999E-43D3-A257-9E14391BD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63305-DAF1-4174-9059-CAD030E5433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25BB1-5545-4694-800D-36CC362D9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6FF83-67F0-441C-8567-44EA5350B10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B1316-FD88-4C44-B380-B77766A9D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58BA9-ED6C-46B0-88B3-3E87288ACD6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BFA3D-63E9-4CD5-9A43-CA7A8D2A3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ED23A-17B9-4424-A71B-9DDE28760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34AEF-8A69-4356-AAA7-D5304D5FD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AF2D3-C971-48C8-A665-C045CFFDA18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AB455-5BF7-43BE-8F31-3467004F0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29CB4-D359-456F-B1BF-89E4158EC4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9A0E7-77AE-4A7F-9D29-4CA31DA71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A66A3-41F4-451F-8BC9-5C783A89AF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176FF-E9FD-47EF-99C5-3272D878A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692D6-AFF5-4AE4-9E9F-A359C2557A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B61C8-5D77-4EF8-B27E-DE9934342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2390F-C93E-4F4D-80CC-C9C76B5172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CC4B2-F08F-4A83-A04A-76CD4C5DB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9250B-F351-4BF0-B355-0F0D5DF135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6AB66-9A27-4057-B623-51CFB2E51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7403C-9669-4AAF-A365-58E64BCC0B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2EEDD-37C7-475F-B359-9E9526BBF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48589-92E1-45E9-ADE1-2C39B85241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AC6EE-BC19-4642-8377-E31649CF5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8D9EF-6611-4CE0-8784-327B67721C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0A393-039B-43BF-A596-9F4CFDFA6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297AB-B9C3-42C9-8A85-A89397CBBB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AEF58-5880-418B-8C2B-ED69EBBB8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- Special Situ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Sharipah Fotimah Syed Abdulla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linik Kesihatan Bandar Mentakab, Pah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Norzaihan Hass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linik Kesihatan Bandar Kota Bharu, Kela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ACB99-9997-43A2-B20C-81B8C33C1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9A44D-EE0D-4DA6-B60A-1884833AD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600120" y="2038320"/>
            <a:ext cx="8015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28560" y="180000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 in a sick child or adolescent with diabetes should be considered as a sign of insulin deficiency until proven otherwise (blood ketones are preferred over urine ketones if available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 for a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 between 4 &amp; 10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ketones below 0.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F905C-D014-496C-A291-238F07E53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493E6-4499-4D78-9F1F-A313B850E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" descr=""/>
          <p:cNvPicPr/>
          <p:nvPr/>
        </p:nvPicPr>
        <p:blipFill>
          <a:blip r:embed="rId1"/>
          <a:stretch/>
        </p:blipFill>
        <p:spPr>
          <a:xfrm>
            <a:off x="509760" y="1519200"/>
            <a:ext cx="82040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AAEBC-6E73-4693-B66E-567BCF220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503280" y="2187720"/>
            <a:ext cx="81374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Hypoglycaemi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93661-6C68-4E30-81DE-CB6CC6227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28560" y="1825200"/>
            <a:ext cx="7886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ypoglycaemia is common among patients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efined as low BG level that predisposes patients to potential h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 single numerical definition of hypoglycaemia for all patients &amp; sit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ften defined as a BG level of &lt;3.6 mmol/L but the threshold for initiation of treatment is 3.9 mmol/L because of the risk of it falling further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80E5D-5FE4-4C31-AF10-AB3C42E1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ypoglycaemia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28560" y="1812960"/>
            <a:ext cx="78868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glycaemia can be symptomatic or asymptoma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s &amp; symptoms of hypoglycaemia are due to adrenergic activation &amp; neuroglycopa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C309B-8D7F-430F-B5F5-B4C246A72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12EC3-3BD7-4B1C-8EC4-0E2FBCEE5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1550880" y="407880"/>
            <a:ext cx="60850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520E4-5748-4194-BE6B-BEC5F38C0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6" name="Picture 3" descr=""/>
          <p:cNvPicPr/>
          <p:nvPr/>
        </p:nvPicPr>
        <p:blipFill>
          <a:blip r:embed="rId1"/>
          <a:stretch/>
        </p:blipFill>
        <p:spPr>
          <a:xfrm>
            <a:off x="452520" y="1905120"/>
            <a:ext cx="8238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28560" y="1837800"/>
            <a:ext cx="78868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of hypoglycaemia treatment is to restore the BG to normal level (5.6 mmol/L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8116F-E069-487E-AEA4-01F795C7A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6524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 the management of T1DM patients during sick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recognise hypoglycaemia &amp; give appropriate management in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advise on eating out to patients with T1DM &amp; their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sting in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isks of fasting for children &amp; adolescents with T1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anagement of T1DM patients who intend to fast during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A5194-301E-4123-9CB2-D3B390821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ld/moderate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28560" y="1800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 is low (3.3 - 3.9 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sympto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ral glucose of 0.3 g/kg (1 tablespoon≈10 g &amp; 1 teaspoon≈5 g) will increase the BG level suffici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eck BG after 10 - 15 minu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peat oral glucose administration if there is no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lex carbohydrates in the form of fruit, bread, cereal or milk can be consumed to prevent recurrent hypo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17109-E523-4D62-8544-D64CDB270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ld/moderate hypoglycaemi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28560" y="1825560"/>
            <a:ext cx="78868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should carry with them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ypok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ing of glucose sachet or glucose tablet &amp; a serving of complex carbohydrates such as bis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4C5EB-D6D2-4A54-BC1B-A91F1A0FF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vere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28560" y="1812960"/>
            <a:ext cx="7886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vent of low BG requiring assistance of another person to reverse the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in young children, even mild to moderate hypoglycaemia often require assistance of caregi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hypoglycaemia in paediatric population is defined as an event associated with severe neuroglycopaenia which usually results in coma or seizure &amp; requires parenteral therapy (SC/IM glucagon or IV glucos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1675-15D2-457F-A338-11B47F8DF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98613-E124-4F92-837E-818EBCF8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444600" y="2525760"/>
            <a:ext cx="8262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vere hypoglycaemi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1825560"/>
            <a:ext cx="788688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glucagon (SC/IM) should be accessible to all patients &amp; caregivers, particularly if there is high risk of severe hypoglycaemia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n its administration is impor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A481A-A58F-42D1-8C43-8F628016B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cturnal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in patients with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ndetected by the patients or their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sleep, the counter regulatory responses to hypoglycaemia are decreased in patients with T1DM who are less likely to be awakened by this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29C2-01B0-40B3-868A-153E91615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7DD6E-1946-4CA7-8CCF-CA0163AB7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357120" y="1990800"/>
            <a:ext cx="84297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6745F-618C-436B-BE77-8D063AD48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357120" y="1271520"/>
            <a:ext cx="84297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Eating ou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A3028-608D-4157-A964-1512DE0BF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ating o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28560" y="1800360"/>
            <a:ext cx="7886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ildren &amp; adolescents with T1DM should be allowed to eat out at restaurant, festival, parties or “kenduri” to the same extent as their frie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688F1-0234-46DF-A921-215473F56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SICK DA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F7045-5133-4A20-B7C0-7E79581F6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ating out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8560" y="17762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ensure target BG range is maintained when eating out, patients &amp; their caregivers should practise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arb cou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sulin adjustment based on 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food consu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evel of physica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3. Hanas R. London: Class Publishing;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4. International Society for Pediatric and Adolescent Diabetes (ISPAD). Zeist: Medforum; 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28841-62CA-4118-A5BB-F7E91730C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dvice on eating o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80600" y="1800360"/>
            <a:ext cx="819324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vice to patients withT1DM &amp; their caregiver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ccasional sugary food treats may not provoke hyperglycaemia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180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hysical activity levels are h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180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sulin dose adjustments are made based on carbohydrate counting, ICR &amp; IS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dditional (rapid-acting or short-acting) insulin may be useful to prevent or treat hyper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BB82B-4523-47F0-9B46-E761BA2AA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dvice on eating out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93560" y="1825560"/>
            <a:ext cx="82058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vice to patients withT1DM &amp; their caregiver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level should be checked before &amp; after eating out, &amp; the results documented as this will guide patients &amp; their caregivers in planning for similar future occa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hen eating out, the meal may be served later than usual; to avoid hypoglycaemia, adjust the administration of meal insulin in accordance to the timing of carbohydrate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9BA5C-BCBB-4F65-B6EE-A3B38D042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3D908-7D6E-4531-B64E-926382679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347760" y="2476440"/>
            <a:ext cx="844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Fasting during Ramadha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A3975-74CF-4F0B-BC87-295D0F845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40140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asting during Ramad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28560" y="12970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from dawn till sunset, during the month of Ramadan is obligatory for Muslims. During this period, one has to abstain from eating &amp; drin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slam has allowed various categories of people to be exempted from fasting, for example young children, sick people &amp; travel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ajor risks associated with fasting in diabetic patients include hypoglycaemia, hyperglycaemia, DKA, dehydration &amp; thromb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vertheless, many patients with T1DM insist on fasting during Ramad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ose who intend to fast should have good glycaemic control, perform regular self-monitoring &amp; be under professional superv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528A8-CBC6-482B-8698-6F210C8C8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401760"/>
            <a:ext cx="78868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asting during Ramadan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28560" y="1407960"/>
            <a:ext cx="788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with T1DM &amp; the following features are at very high risk for complications during fasting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vere hypoglycaemia within 3 months prior to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istory of recurrent hypo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ypoglycaemia un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oor glycaemic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KA within 3 months prior to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ute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hronic di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se patients are discouraged from fas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5. Azad K, et al. Indian J Endocrinol Metab 2012;16(4):516-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EAC36-B489-433B-B546-F5F21FEDF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28560" y="1800000"/>
            <a:ext cx="7886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nagement plan for patients with T1DM who intend to fast should be individualised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madan-focused patient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-Ramadan med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et &amp;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xercise &amp; physical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onitoring glycaemic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dications to break the 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sulin regim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9970C-859B-4448-B784-F0A9D6874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. Ramadan-focused patient edu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28560" y="206064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madan-focused diabetes education include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eal planning &amp; dietary ad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M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justment &amp; compliance to insuli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ocus on the causation, early recognition &amp;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nagement of hypoglycaemia, hyperglycaemia, dehydration &amp; impending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&amp; intensity of 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73A9D-89D3-47E4-B35F-28F782226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b. Pre-Ramadan medical assess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28560" y="2122560"/>
            <a:ext cx="7886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ferably undertaken 1 - 2 months before the fasting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clude physical status, glycaemic status &amp; appropriate blood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valuation for any acute &amp; chronic complications, &amp; individual risk stratification to identify those not fit to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8596A-1257-4A1A-A22C-7DFBCDB5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28560" y="1652400"/>
            <a:ext cx="78868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re are special circumstances when glucose metabolism is significantly altered, requiring additional monitoring of BG &amp;/or adjustment of the patient’s daily insulin d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school or daycare setting  presents the challenges in the management of the patients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are givers should be provided with clear guidance  on how to manage these special si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09B09-570B-41F1-A102-E1F245298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c. Diet &amp; nutri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28560" y="1800360"/>
            <a:ext cx="7886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ance of large amount of foods rich in carbohydrate &amp; fat during ‘iftar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nsumption of complex carbohydrate (slow-digesting foods) during ‘sahur’ (taken as late as possible) will result in delayed digestion &amp; 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alanced diet with inclusion of fruits, vegetables, lentils, yogurt &amp; ce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beral fluid intake during non-fasting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B2FF5-4FA1-46FC-A1C1-DB85D558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d. Exercise &amp; physical activi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28560" y="1825560"/>
            <a:ext cx="78868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intain normal level of physical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rigorous exercise during fasting ho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EAD40-191C-4C87-933E-711B1B24A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. Monitoring glycaemic statu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28560" y="1789200"/>
            <a:ext cx="78868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lood testing or insulin injection is allowed during fasting (under Fatwa 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ncourage patients to do frequent SM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eck urine/blood for ketone if BG is high (&gt;14 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F8D16-1CE2-4DCA-9054-28118349C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. Indications to break the f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28560" y="1812600"/>
            <a:ext cx="7886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s are low (&lt;4 mmol/L) or experiences signs/symptoms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 is &gt;16.7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 is un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6ED4F-5C3F-4E46-A7B9-F37F35CED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g. Insulin regime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628560" y="181260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during Ramadan in T1DM is safe with adjustment of insulin dose &amp; regular BG monitorin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6, 1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6. Ibrahim AlAlwana, et al. Int J Diabetes Mellit. 2010;2(2):127-1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7. Al-Khawari M, et al. Pediatr Diabetes. 2010;11(2):96-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9927F-9A22-4BFC-919F-5EB1DFEE8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</a:t>
            </a:r>
            <a:br>
              <a:rPr sz="4400"/>
            </a:b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on basal-bolus regimen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8560" y="2109960"/>
            <a:ext cx="78868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duce basal insulin by 10 - 20% &amp; further if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rapid-acting insulin with meal &amp; perform carbohydrate cou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glucose rises above 15 mmol/L, a correcting dose of rapid-acting insulin should be gi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long-acting &amp; rapid-acting insulin are unavailable, it may be sufficient to use intermediate-acting &amp; short-acting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64909-1BC5-4EF4-A5FD-7C6019B08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Calibri"/>
              </a:rPr>
              <a:t>Insulin adjustment in patients on two-dose insulin regim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28560" y="1544760"/>
            <a:ext cx="7886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Premixed insulins are not recommended for paediatric use.</a:t>
            </a:r>
            <a:r>
              <a:rPr b="0" lang="en-MY" sz="28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 a small study, 60% of patients with T1DM on conventional twice a-day regimen were able to fast safely with proper education &amp; intensive follow-up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are advised to change their insulin dosages such that they take combined intermediate- &amp; short-acting insulin before iftar (break fast), which is their usual morning dose, &amp; only short-acting insulin before sahur (pre-dawn meal) at a dose of 0.1 - 0.2 IU/k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500" spc="-1" strike="noStrike">
                <a:solidFill>
                  <a:srgbClr val="000000"/>
                </a:solidFill>
                <a:latin typeface="Calibri"/>
              </a:rPr>
              <a:t>118. Zabeen B, et al. Indian J Endocrinol Metab. 2014;18(1):44-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0A4A7-9F02-4A2C-9308-37C5B7914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on three-dose insulin regimen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28560" y="2096640"/>
            <a:ext cx="788688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short-acting insulin during sahur &amp; if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intermediate-acting insulin in the late ev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erform frequent SMBG especi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efore iftar &amp; 3 hours after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efore sahur &amp; 2 hours after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just insulin dose according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81EA9-CC0C-4D72-8F7B-A4EFC0DE8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</a:t>
            </a:r>
            <a:br>
              <a:rPr sz="4400"/>
            </a:b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on insulin pump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628560" y="2122200"/>
            <a:ext cx="78868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during Ramadan can be successfully accomplished by patients with T1DM if they are fully educated &amp; metabolically s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st will need to reduce their basal infusion rate while adjusting the bolus doses to cover the sahur &amp; if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0960-F3C7-460C-9EA8-487FFB486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D28CB-645A-4B89-8E4A-87BE44B7F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347760" y="2604960"/>
            <a:ext cx="844848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28560" y="17762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illnesses, especially those associated with fever &amp; raised BG levels becaus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levels of stress hormones promote gluconeogenesis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ly, increase ketone body production due to inadequate insulin level leading to increased insulin requ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0784A-9912-415C-89FE-D800C4BB3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43920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28560" y="1371240"/>
            <a:ext cx="7886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avoid complications such as hypoglycaemia or hyperglycaemia, dehydration, impeding ketoacidosis, the diabetic care team should provide clear guidance to children &amp; adolescents with T1DM &amp; their care givers during special sit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&amp; blood/urine ketone should be monitored more frequent during sick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ever stop insulin during sick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- &amp; post-meal BG should be checked when eating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ensure target BG range is maintained ,the patients &amp; their caregivers should adjust the dose &amp; timing of insulin accordin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atients with T1DM who intend to fast should receive &amp; follow individualised management p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C65EB-17D3-40AB-BCB3-3808EA0D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E4E4C-5172-4D9D-BCBF-4C149200B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28560" y="1800360"/>
            <a:ext cx="7886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llness associated with vomiting &amp; diarrhoea (e.g. viral gastroenteritis) &amp; decreased food intake, poorer absorption &amp; slower emptying of the stomach or overt diarrhoea with more rapid transit during gastroenteritis may lower BG with the increased possibility of hypo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64FD3-BF51-40C8-A3CE-89BB44B7D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28560" y="1812600"/>
            <a:ext cx="78868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insulin dose usually needs to be increased when there is fever or intercurrent illness, based on frequent BG &amp; urine/blood ketone measurement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603EA-2444-48B8-A375-C82078B7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"/>
          <p:cNvPicPr/>
          <p:nvPr/>
        </p:nvPicPr>
        <p:blipFill>
          <a:blip r:embed="rId1"/>
          <a:stretch/>
        </p:blipFill>
        <p:spPr>
          <a:xfrm>
            <a:off x="604800" y="611280"/>
            <a:ext cx="7934400" cy="5492520"/>
          </a:xfrm>
          <a:prstGeom prst="rect">
            <a:avLst/>
          </a:prstGeom>
          <a:ln w="0">
            <a:noFill/>
          </a:ln>
        </p:spPr>
      </p:pic>
      <p:sp>
        <p:nvSpPr>
          <p:cNvPr id="83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DFA3D-E0E2-4455-A731-0F0789FF2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527040" y="647640"/>
            <a:ext cx="8172360" cy="760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527040" y="1407960"/>
            <a:ext cx="8172360" cy="4745160"/>
          </a:xfrm>
          <a:prstGeom prst="rect">
            <a:avLst/>
          </a:prstGeom>
          <a:ln w="0">
            <a:noFill/>
          </a:ln>
        </p:spPr>
      </p:pic>
      <p:sp>
        <p:nvSpPr>
          <p:cNvPr id="83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AF4A-2F3C-4B8F-B452-2655926B4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9T04:47:25Z</dcterms:modified>
  <cp:revision>106</cp:revision>
  <dc:subject/>
  <dc:title>PowerPoint Presentation</dc:title>
</cp:coreProperties>
</file>